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98D-3047-44EF-BE19-3DA9BCBE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E4F-F535-4C34-A806-CC992CB6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7B4-B0A1-43CA-8CA3-D9D2AC65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2E9-C75E-469B-BC2E-F305327B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759-D052-46B2-8DF8-0354CAD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689-8913-4115-9878-D10FC197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D03-D78E-49D8-89AB-892364B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8E2-8FF3-417B-B62C-109D54F3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9C5-3474-48DD-A285-F2EAC45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0AF-2CB0-4F8F-A6D2-DE9BF7C8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A4C-3FEE-4F8B-A3E3-B025A5F7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4DA-1F02-4B68-91DF-F88F72D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5EB8-E260-428D-A64E-3CD168393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35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 Problems in Lactating Dairy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28560" y="1101600"/>
          <a:ext cx="7980480" cy="5029200"/>
        </p:xfrm>
        <a:graphic>
          <a:graphicData uri="http://schemas.openxmlformats.org/drawingml/2006/table">
            <a:tbl>
              <a:tblPr/>
              <a:tblGrid>
                <a:gridCol w="1255680"/>
                <a:gridCol w="3953160"/>
                <a:gridCol w="277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eatment/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f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t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Iml-files-1\Data1\PROJECTS\Agricultural Education\Online Curriculum\Agricultural Science I\Introduction to Dairy Production\Originals\jpgs\TM-5.2.jpg"/>
          <p:cNvPicPr/>
          <p:nvPr/>
        </p:nvPicPr>
        <p:blipFill>
          <a:blip r:embed="rId1"/>
          <a:stretch/>
        </p:blipFill>
        <p:spPr>
          <a:xfrm>
            <a:off x="1082520" y="1193760"/>
            <a:ext cx="6902640" cy="4587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507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s of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15:05Z</dcterms:created>
  <dc:creator>loweryb</dc:creator>
  <dc:description/>
  <dc:language>en-US</dc:language>
  <cp:lastModifiedBy>LevsenJ</cp:lastModifiedBy>
  <dcterms:modified xsi:type="dcterms:W3CDTF">2007-09-07T14:23:32Z</dcterms:modified>
  <cp:revision>3</cp:revision>
  <dc:subject/>
  <dc:title>Slide 1</dc:title>
</cp:coreProperties>
</file>